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20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C0EF-067A-4912-A26B-E12426367C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nd Organelles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Membran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Reference: p.16-p.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nd Organelles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Membran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Reference: p.16-p.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……wha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difference between a glycoprotein and a glycolipi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……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difference between a glycoprotein and a glycolipi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ole of glycoprotein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y help in the recognition of, and interaction with, other cells. They may also play a part in the recognition of hormones and foreign molecule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ole of glycoprotei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y help in the recognition of, and interaction with, other cells. They may also play a part in the recognition of hormones and foreign mole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ole of cholesterol in the cell membran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lesterol is also present in the membrane. It maintains the fluidity and increases the stability of the membrane. Without cholesterol the membrane would easily split apar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ole of cholesterol in the cell membra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lesterol is also present in the membrane. It maintains the fluidity and increases the stability of the membrane. Without cholesterol the membrane would easily split apa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: Func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ly permeable barri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, keeping the cell contents togeth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communication with other cel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recognition of other external substanc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mobility in some organisms, e.g. amoeb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te of various chemical reacti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: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ly permeable barr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, keeping the cell contents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communication with oth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recognition of other external substa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mobility in some organisms, e.g. amoeb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te of various chemical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nd Organelles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rganisms do exist as single cells - for example, Amoeba,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many organisms are multicellular and consist of from hundreds to billions of cell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s of the organism are divided up amongst the groups of cells, which become specialised for particular ro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ed cells show division of labour by being grouped into tissu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nd Organelles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rganisms do exist as single cells - for example, Amoeba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many organisms are multicellular and consist of from hundreds to billions of cel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s of the organism are divided up amongst the groups of cells, which become specialised for particular ro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ed cells show division of labour by being grouped into t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Tissue? Defini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issue is defined as a collection of cells, together with any extracellular secretion, that is specialised to perform one or more particular function. Tissues may contain only one type of cell, or several typ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Tissue? Defi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issue is defined as a collection of cells, together with any extracellular secretion, that is specialised to perform one or more particular function. Tissues may contain only one type of cell, or several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site Referenc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-cool.co.u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Biology and the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Cells and Organell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Gas Exchan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Transpo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site Referenc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-cool.co.u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Biology and the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Cells and Organell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Gas Exchan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membranes have the same basic structu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the cell surface membrane and the membranes surrounding certain organelles have the same basic structure. Much of the membrane is made up of a 'sea' of phospholipids with protein molecules 'floating' in between the phospholipid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membranes have the same basic struc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the cell surface membrane and the membranes surrounding certain organelles have the same basic structure. Much of the membrane is made up of a 'sea' of phospholipids with protein molecules 'floating' in between the phospholipi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re proteins located within the membran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intrinsic protei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extrinsic protei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called the fluid mosaic model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re proteins located within the membra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intrinsic pro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extrinsic pro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called the fluid mosaic mod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INSIC 1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movement of substances, such as glucose, across the membr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ATP REQUI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INSIC 1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movement of substances, such as glucose, across th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ATP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ly transport substances, such as minerals, across the membr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is REQUI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INSIC 2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ly transport substances, such as minerals, across th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is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INSIC 2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a) Channel       VS    (b) Carri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Channel       VS    (b) C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ayer; Phospho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bilay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osphate heads are polar molecules and so are water-solub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pid tails are non-polar and therefore are not water-solub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ayer; Phospholip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bilay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osphate heads are polar molecules and so are water-solu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pid tails are non-polar and therefore are not water-solu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phospholipids have both a hydrophilic and a hydrophobic par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osphate heads are polar. Are they water-soluble?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pid tails are non-polar. Are they water-solubl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phospholipids have both a hydrophilic and a hydrophobic pa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osphate heads are polar. Are they water-solubl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pid tails are non-polar. Are they water-solu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polysaccharid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e: polymer; monomer; carbohyd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polysacchari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e: polymer; monomer; carbohyd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797B-92BA-4704-B7C4-9204F2CAF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0255-849F-41DC-A0A6-7469465B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0DDE-4707-4564-ABC6-2D6A51A4B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3EDD-94FB-4A6A-ABF8-99684F867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8CA0-BB35-4EDD-AD54-C8B7D3290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657E-3207-4E99-8E31-E237763D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8F86-459F-4E7A-AFB2-762EBF5B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2522-FC86-4A59-9B3B-B87DA4EB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3379B-F56B-4506-A0B7-5771FC32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EF5D3-63D7-4175-B128-5B0946AC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B749-D647-4C69-9F5A-28D7AD1D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89FB-562A-46A1-87D6-8D37A975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2653C-8C84-4BEC-A926-BE1B7AD7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F92E-86E7-4E6C-ADA3-1ECC8F1C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AC943-E7FB-437A-BED1-41E96EFF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D546-8001-423C-83BA-065594CA8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6B3F-D404-4407-BF86-A7425294B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4449-6A3A-49EC-92E2-64483DCF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58E0-3C41-4894-9B33-71B838D2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C3B2-B2E4-40E0-A74B-208E2FDE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AC52-46DE-41A3-8BF1-E270D901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0C99-E633-44C4-9558-A4C3102B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BC13-1C62-4B15-9735-11032BFD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5930-B19E-4135-AEA6-B268BF34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F2F6-FE87-4312-AAE7-12A52E319E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CFEE-D551-46B1-B77E-1EE131225A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-cool.co.uk/" TargetMode="External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hyperlink" Target="http://images.google.co.uk/imgres?imgurl=http://www.ncbi.nlm.nih.gov/bookshelf/picrender.fcgi%3Fbook%3Dglyco2%26part%3Dch20%26blobname%3Dch20f1.jpg&amp;imgrefurl=http://www.ncbi.nlm.nih.gov/bookshelf/br.fcgi%3Fbook%3Dglyco2%26part%3Dch20&amp;usg=__XGfnPg3KHTnKiV3Od8EsVPFE0f8=&amp;h=718&amp;w=784&amp;sz=234&amp;hl=en&amp;start=2&amp;um=1&amp;tbnid=5y1k_ydNYGbF-M:&amp;tbnh=131&amp;tbnw=143&amp;prev=/images%3Fq%3Dpolysaccharide%2Bcell%2Bmembrane%26hl%3Den%26sa%3DX%26um%3D1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Cells and Organelles;</a:t>
            </a:r>
            <a:br>
              <a:rPr sz="4000"/>
            </a:b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The Cell Membrane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ook Reference: p.16-p.1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Image127"/>
          <p:cNvPicPr/>
          <p:nvPr/>
        </p:nvPicPr>
        <p:blipFill>
          <a:blip r:embed="rId1"/>
          <a:stretch/>
        </p:blipFill>
        <p:spPr>
          <a:xfrm>
            <a:off x="324000" y="0"/>
            <a:ext cx="721044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Glyco……what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8920" y="0"/>
            <a:ext cx="377820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at is the difference between a 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glycoprotein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and a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glycolipid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8" descr="glycoprotein"/>
          <p:cNvPicPr/>
          <p:nvPr/>
        </p:nvPicPr>
        <p:blipFill>
          <a:blip r:embed="rId1"/>
          <a:stretch/>
        </p:blipFill>
        <p:spPr>
          <a:xfrm>
            <a:off x="5148360" y="1989000"/>
            <a:ext cx="3371760" cy="3934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556cerebroside"/>
          <p:cNvPicPr/>
          <p:nvPr/>
        </p:nvPicPr>
        <p:blipFill>
          <a:blip r:embed="rId2"/>
          <a:stretch/>
        </p:blipFill>
        <p:spPr>
          <a:xfrm>
            <a:off x="0" y="2924280"/>
            <a:ext cx="4319640" cy="39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the role of glycoprotein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y may help in the recognition of, and interaction with, other cells.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They may also play a part in the recognition of hormones and foreign molecules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Picture 8" descr="cellreceptors"/>
          <p:cNvPicPr/>
          <p:nvPr/>
        </p:nvPicPr>
        <p:blipFill>
          <a:blip r:embed="rId1"/>
          <a:stretch/>
        </p:blipFill>
        <p:spPr>
          <a:xfrm>
            <a:off x="4029120" y="2060640"/>
            <a:ext cx="511488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What is the role of cholesterol in the cell membrane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olesterol is also present in the membrane. It 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maintains the fluidity and increases the stability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f the membrane.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Withou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cholesterol the membrane would easily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plit apar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Picture 8" descr="cholesterol"/>
          <p:cNvPicPr/>
          <p:nvPr/>
        </p:nvPicPr>
        <p:blipFill>
          <a:blip r:embed="rId1"/>
          <a:stretch/>
        </p:blipFill>
        <p:spPr>
          <a:xfrm>
            <a:off x="4788000" y="1844640"/>
            <a:ext cx="367164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ell membrane: Func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Selectively permeable barrie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Structural, keeping the cell contents togeth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b2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200"/>
                </a:solidFill>
                <a:latin typeface="Comic Sans MS"/>
              </a:rPr>
              <a:t>Allows communication with other cell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Allows recognition of other external substanc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llows mobility in some organisms, e.g. amoeb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b2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200"/>
                </a:solidFill>
                <a:latin typeface="Comic Sans MS"/>
              </a:rPr>
              <a:t>The site of various chemical reaction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ells and Organelles;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issu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me organisms do exist as single cells - for example, Amoeba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ut many organisms are multicellular and consist of from hundreds to billions of cells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functions of the organism are divided up amongst the groups of cells, which become specialised for particular rol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pecialised cells show division of labour by being grouped into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tissues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7" descr="amoeba"/>
          <p:cNvPicPr/>
          <p:nvPr/>
        </p:nvPicPr>
        <p:blipFill>
          <a:blip r:embed="rId1"/>
          <a:stretch/>
        </p:blipFill>
        <p:spPr>
          <a:xfrm>
            <a:off x="5867280" y="620640"/>
            <a:ext cx="2163960" cy="1656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piperine-fig1"/>
          <p:cNvPicPr/>
          <p:nvPr/>
        </p:nvPicPr>
        <p:blipFill>
          <a:blip r:embed="rId2"/>
          <a:stretch/>
        </p:blipFill>
        <p:spPr>
          <a:xfrm>
            <a:off x="4716360" y="2349360"/>
            <a:ext cx="2689200" cy="1871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3" descr="liver"/>
          <p:cNvPicPr/>
          <p:nvPr/>
        </p:nvPicPr>
        <p:blipFill>
          <a:blip r:embed="rId3"/>
          <a:stretch/>
        </p:blipFill>
        <p:spPr>
          <a:xfrm>
            <a:off x="5435640" y="4508640"/>
            <a:ext cx="294624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a Tissue?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00360" y="213372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 tissue is defined as a collection of cells, together with any extracellular secretion, that is specialised to perform one or more particular function. Tissues may contain only one type of cell, or several typ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5" name="Picture 8" descr="Arm_4_Finished"/>
          <p:cNvPicPr/>
          <p:nvPr/>
        </p:nvPicPr>
        <p:blipFill>
          <a:blip r:embed="rId1"/>
          <a:stretch/>
        </p:blipFill>
        <p:spPr>
          <a:xfrm>
            <a:off x="0" y="981000"/>
            <a:ext cx="4286160" cy="39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9360">
            <a:solidFill>
              <a:srgbClr val="703dff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ebsite Reference: </a:t>
            </a:r>
            <a:br>
              <a:rPr sz="4400"/>
            </a:br>
            <a:r>
              <a:rPr b="0" lang="en-GB" sz="4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www.s-cool.co.uk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o to Biology and then: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1.Cells and Organelles </a:t>
            </a:r>
            <a:br>
              <a:rPr sz="4400"/>
            </a:b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2.Gas Exchange</a:t>
            </a:r>
            <a:br>
              <a:rPr sz="4400"/>
            </a:b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3.Trans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8" descr="SCoolIcon"/>
          <p:cNvPicPr/>
          <p:nvPr/>
        </p:nvPicPr>
        <p:blipFill>
          <a:blip r:embed="rId2"/>
          <a:stretch/>
        </p:blipFill>
        <p:spPr>
          <a:xfrm>
            <a:off x="324000" y="2349360"/>
            <a:ext cx="1428480" cy="1123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SCoolIcon"/>
          <p:cNvPicPr/>
          <p:nvPr/>
        </p:nvPicPr>
        <p:blipFill>
          <a:blip r:embed="rId3"/>
          <a:stretch/>
        </p:blipFill>
        <p:spPr>
          <a:xfrm>
            <a:off x="155520" y="46080"/>
            <a:ext cx="1428840" cy="1123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4" descr="SCoolIcon"/>
          <p:cNvPicPr/>
          <p:nvPr/>
        </p:nvPicPr>
        <p:blipFill>
          <a:blip r:embed="rId4"/>
          <a:stretch/>
        </p:blipFill>
        <p:spPr>
          <a:xfrm>
            <a:off x="6804000" y="4724280"/>
            <a:ext cx="1428840" cy="11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000" y="-3164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o all membranes have the same basic structure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920" y="1197000"/>
            <a:ext cx="3778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Both the cell surface membrane and the membranes surrounding certain organelles have the same basic structure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Much of the membrane is made up of a 'sea' of phospholipids with protein molecules 'floating' in between the phospholipids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.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12" descr="Image31"/>
          <p:cNvPicPr/>
          <p:nvPr/>
        </p:nvPicPr>
        <p:blipFill>
          <a:blip r:embed="rId1"/>
          <a:stretch/>
        </p:blipFill>
        <p:spPr>
          <a:xfrm>
            <a:off x="4572000" y="2492280"/>
            <a:ext cx="383868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000" y="-243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Where are proteins located within the membrane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What is an intrinsic protei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What is an extrinsic protei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 is it called the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fluid mosaic model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15" descr="CellMembrane"/>
          <p:cNvPicPr/>
          <p:nvPr/>
        </p:nvPicPr>
        <p:blipFill>
          <a:blip r:embed="rId1"/>
          <a:stretch/>
        </p:blipFill>
        <p:spPr>
          <a:xfrm>
            <a:off x="2843280" y="4653000"/>
            <a:ext cx="6095880" cy="24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TRINSIC 1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hannel Protei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3628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ow movement of substances, such as glucose, across the membra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 ATP REQUI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10" descr="Image133"/>
          <p:cNvPicPr/>
          <p:nvPr/>
        </p:nvPicPr>
        <p:blipFill>
          <a:blip r:embed="rId1"/>
          <a:stretch/>
        </p:blipFill>
        <p:spPr>
          <a:xfrm>
            <a:off x="3995640" y="2637000"/>
            <a:ext cx="4923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388620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ctively transport substances, such as minerals, across the membra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TP is REQUI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618920" y="6202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TRINSIC 2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rrier Protei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6" descr="ch05summary"/>
          <p:cNvPicPr/>
          <p:nvPr/>
        </p:nvPicPr>
        <p:blipFill>
          <a:blip r:embed="rId1"/>
          <a:stretch/>
        </p:blipFill>
        <p:spPr>
          <a:xfrm>
            <a:off x="4859280" y="2133720"/>
            <a:ext cx="34578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6" descr="Image132"/>
          <p:cNvPicPr/>
          <p:nvPr/>
        </p:nvPicPr>
        <p:blipFill>
          <a:blip r:embed="rId1"/>
          <a:stretch/>
        </p:blipFill>
        <p:spPr>
          <a:xfrm>
            <a:off x="762120" y="1947960"/>
            <a:ext cx="7619760" cy="29620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7"/>
          <p:cNvSpPr/>
          <p:nvPr/>
        </p:nvSpPr>
        <p:spPr>
          <a:xfrm>
            <a:off x="0" y="260280"/>
            <a:ext cx="8459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(a) Channel       VS    (b) Carri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roteins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-459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ilayer; Phospholipi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200"/>
                </a:solidFill>
                <a:latin typeface="Comic Sans MS"/>
              </a:rPr>
              <a:t>What is the bilayer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phosphate head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re 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pol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olecu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nd so are 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water-solubl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lipid tail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non-pol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nd therefore are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not water-solubl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8" descr="lipidbilayer"/>
          <p:cNvPicPr/>
          <p:nvPr/>
        </p:nvPicPr>
        <p:blipFill>
          <a:blip r:embed="rId1"/>
          <a:stretch/>
        </p:blipFill>
        <p:spPr>
          <a:xfrm>
            <a:off x="4716360" y="2637000"/>
            <a:ext cx="285768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Why do phospholipids have both a hydrophilic and a hydrophobic part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phosphate head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pol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 Are they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water-solubl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lipid tail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re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non-polar.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re they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water-solubl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8" descr="phospholipid"/>
          <p:cNvPicPr/>
          <p:nvPr/>
        </p:nvPicPr>
        <p:blipFill>
          <a:blip r:embed="rId1"/>
          <a:stretch/>
        </p:blipFill>
        <p:spPr>
          <a:xfrm>
            <a:off x="4500720" y="1484280"/>
            <a:ext cx="4114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a polysaccharid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4076640"/>
            <a:ext cx="2735280" cy="14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lu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polymer; monomer; carbohydr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8" descr="polysaccharide_1_c_la_784"/>
          <p:cNvPicPr/>
          <p:nvPr/>
        </p:nvPicPr>
        <p:blipFill>
          <a:blip r:embed="rId1"/>
          <a:stretch/>
        </p:blipFill>
        <p:spPr>
          <a:xfrm>
            <a:off x="179280" y="1341360"/>
            <a:ext cx="3114720" cy="2752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glucose"/>
          <p:cNvPicPr/>
          <p:nvPr/>
        </p:nvPicPr>
        <p:blipFill>
          <a:blip r:embed="rId2"/>
          <a:stretch/>
        </p:blipFill>
        <p:spPr>
          <a:xfrm>
            <a:off x="5796000" y="1773360"/>
            <a:ext cx="2676600" cy="2809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picrende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43280" y="3933720"/>
            <a:ext cx="2881080" cy="2398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08:52:04Z</dcterms:created>
  <dc:creator>User</dc:creator>
  <dc:description/>
  <dc:language>en-US</dc:language>
  <cp:lastModifiedBy>RomaK</cp:lastModifiedBy>
  <dcterms:modified xsi:type="dcterms:W3CDTF">2015-09-04T10:54:38Z</dcterms:modified>
  <cp:revision>18</cp:revision>
  <dc:subject/>
  <dc:title>Cells and Organelles The Cell Membrane  </dc:title>
</cp:coreProperties>
</file>